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BEB-1A2D-4118-AFA0-B40A6300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692-59E9-4AC3-B701-CA904E51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2977EA-A5DB-4073-A2D4-8344D98B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1FC83A-27C1-4235-922F-04F2EF1A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694FF-8868-4AC2-8BE2-BD6D4A4C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2AC022-1FCC-4AAA-9899-BBDC6E08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35DDCC-AFE2-40F0-9283-6468ADE1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E72B97-A007-4D23-9A10-1F0A6FEB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34C85E-705E-4235-B295-BE5015B1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3B3AD-3FE1-42A5-B1BD-265957A8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FD29E3-56DB-4DCB-87C2-C488747A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C33-EF2B-42EF-B32E-1645FD34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15A-1B4A-44E2-98A2-A704E0F6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E38E0-C3F0-445F-A996-F47B1AD5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20F2C-39E6-4020-836F-C068583D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DF731-9B11-4BDB-A600-AD387FD1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F04EF-1704-4823-9533-82337EF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DE1C7-5256-43B5-BC59-DB828FE1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2B4E4-4D08-4D53-959C-788BEF8F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4F740-79D7-4BEF-B172-A864B804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0D4-579B-469B-841A-FCDC3E55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0AC1E-38EB-4121-973B-CC0FA770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BAB7E-9025-4694-8BAD-A471471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B69A3-1FDE-41B3-B880-8ED88A03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0A946-5A6F-43F9-AEB3-4B709623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2A62C-0B02-4032-9EE0-CE0F9732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6F19-DE7D-402C-B783-8DA8A13A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0696-AFF9-40E2-9E43-2929E325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036C-23AD-43FB-905E-3262510A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6074-CB38-459F-8CBD-2088F586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B846-0F32-4C92-98CD-6F6AC4CD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658-8AC4-4CC7-BFDF-CABA2C08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93F0-5029-41AB-8ED3-C87377DC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191E-E240-4A0C-A613-7B461D98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2B76-926C-4B3A-9635-F9972323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C03D-F07A-424C-913B-2D4B86F5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FF71-BDC8-4C6D-9940-253A55E2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E5308-997D-4981-8E37-89E1320E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FFC3-FBCF-4E6E-AC33-B46EFFAB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264E90-E043-4345-82B9-7A062E03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3FC0B4-673F-4C05-B4CA-612A48E4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248FD-3DB4-4F32-A844-177F2612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837-BE83-41D0-9C7E-30AC4E9B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43F2B-6835-4134-88F2-0C63AF5C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C8EEA-67AD-4926-ABA2-4741DC57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F930D-21F3-4917-9387-384E80BA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D588F-4742-444A-9CE2-8B520AAC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10C01-D526-4D9C-B3F3-6BC60EBF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EA892-3E16-4AE9-8500-14E5F95F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473FC-CC48-4CDC-AC39-A7402F58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0532F4-1F03-44C9-B2A6-5179D967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CF8E1-9177-4A1A-8094-4F3347EC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14E6E-9DDA-459F-9B30-EF2962AB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95D-B4B9-469A-800D-49CC5E22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1D611-5E36-494A-BDA8-CC536F97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7F61-280A-4023-9344-B294584E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7C19C-26DE-4387-8504-1B8A8182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178EE-4EB7-4ED4-AAFC-701251B9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798A9-DD58-4CD8-92CE-19F3BF0D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BB64-6E4F-4552-B4C4-0D48255A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489AF-76C4-480B-8FBF-49174FF5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6E347-5DED-485C-9DC1-BC5B27B4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03382-B892-4955-A109-4BD6D5C0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AB46E-A98D-4BAF-BE81-2BB4E4D9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B21-C6FD-4234-BB67-B4BF2425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D832-1CE4-4B0E-BEC2-7D098662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DD7CD-A890-41F9-9ACC-8FBE17A5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8BA08-DDBA-4915-9019-6F86C77A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9C052-FA6F-44D7-8802-FBCBD262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26DEC-FCC5-4B96-AB65-3B7E88E7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71CB6-DCB8-4A62-A351-F172086A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8EC3D-A247-497E-9068-F1F96361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215B-DF7B-4E36-94BE-FE653A09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BADF3-C832-47A3-A35F-49AB6AC9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139AD-BDE4-4888-9169-068D401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B78-05F9-4CFF-9948-1E736BF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80463-4B10-4506-9FDA-85964E20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51F2B-17F9-4E34-A863-B7136123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9E54D-D565-47AB-9F5B-8AD80EC4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033EB-185B-439E-AC44-C4A18DE8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29F7-32E7-4474-B89A-668172DE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2A5BB-5BB2-451D-9B59-8D9E12AB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160CE-B2CA-478D-8978-8346F768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19044-D135-4FFB-A633-8C4A90EA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1A3F0-9ED0-4B34-A029-04B5B28E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544CC-D5C5-4D18-812D-E2B66785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49C-0960-488C-8EA4-743E55D3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25305-E380-40E7-A523-2CAF197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F0B5F-D29D-4199-8BBA-A9F4150F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5C900-B4A2-4FDB-A443-CBEEE929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B4909-868F-47AA-80CF-4DDD5C94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7FB9-DB9C-4347-90BB-22E287A1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95B8D1-3AC0-46C3-AEEC-56944823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D212D9-31F4-4F07-822A-4E1DE2DA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65C6AC-B3EB-4468-B87F-5A8EE351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81EBB5-7C97-47E7-B6FB-8316116F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E8B0FC-57AB-4332-93CD-624E7610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2E6-AB39-4C4D-85FD-D09D2146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6569EE-3071-4CC2-AB44-36E575E0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9A6BE5-9740-43D9-B87C-13D5B98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419E62-BCAA-44E3-ABD0-0E6F2A7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9A9ADE-A3C4-4EF3-9E17-85E12181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8B5F68-D6EC-4398-AE80-DC2A5630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127B4F-6763-4CAE-AF74-65F94395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29AA0-D630-4E3D-8DF2-81B43DFA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C4D434-70C8-46C2-BFE0-DE5F572D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40D27D-CFA6-49D6-AFE9-96EFA99E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578CCA-7831-40C7-BC39-35C09B98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805D8-5FAC-4368-B610-CCBB4BA094DB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BD962-0A1C-4035-9F7F-A249A940093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526B0-5E1E-4F20-8EE1-4F22D5974620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C3AB8-AC6E-4686-91E4-636AF2E416E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E7E1A-DF80-4B0C-B6B0-6932FE0EB779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51EE2-795E-45B7-860F-E27312BEDDD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80946-3C99-4C4B-9744-A64F812536FF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570DD-9912-4BC6-948A-CD8995F8530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AF576-909D-488A-97F1-C2EE52E4E57B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A7CDD-FE76-446A-8CB9-EDB9CEC09A2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05137-56A1-4AE9-ADAD-57418796C6AB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4D437-6FC7-4C20-89AA-455271A9731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B7374-A2F4-49E7-A2EA-1AAC6FF2EC58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5FD6D-BF06-42E5-B840-7AC5B96FE609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4CAB6-931C-4CD6-B298-44787E4900E6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D69F7-A918-4CDD-BC1B-57EB84D88C40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941FC-2B34-4A40-A49B-74C0A1088DCC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54F4C-62FA-4337-A084-5EABDE0BDDE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63680" y="378000"/>
            <a:ext cx="8235720" cy="2279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People of Canad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Skilled Worke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Rockwell"/>
              </a:rPr>
              <a:t>require 70 points in a complicated system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Rockwell"/>
              </a:rPr>
              <a:t>receive points for education, job training, experience, occupation, age, knowledge of English and French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Busine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Rockwell"/>
              </a:rPr>
              <a:t>require only 25 point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Rockwell"/>
              </a:rPr>
              <a:t>an ability and willingness to make significant financial contributions to the economy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25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Rockwell"/>
              </a:rPr>
              <a:t>Have a member of their family already residing in the country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Rockwell"/>
              </a:rPr>
              <a:t>Family must financially sponsor the new immigrant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Rockwell"/>
              </a:rPr>
              <a:t>Less family immigrants are coming due to the financial risks and stricter government law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2" name="Content Placeholder 4" descr="Family_reunification.jpg"/>
          <p:cNvPicPr/>
          <p:nvPr/>
        </p:nvPicPr>
        <p:blipFill>
          <a:blip r:embed="rId2"/>
          <a:srcRect l="-16780" t="0" r="-16780" b="0"/>
          <a:stretch/>
        </p:blipFill>
        <p:spPr>
          <a:xfrm>
            <a:off x="4648320" y="1646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4" descr="refugee.png"/>
          <p:cNvPicPr/>
          <p:nvPr/>
        </p:nvPicPr>
        <p:blipFill>
          <a:blip r:embed="rId2"/>
          <a:srcRect l="-2504" t="0" r="-2504" b="0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Rockwell"/>
              </a:rPr>
              <a:t>Someone who fears persecution or death from their home country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Rockwell"/>
              </a:rPr>
              <a:t>Harassed for racial, religious, political reason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Rockwell"/>
              </a:rPr>
              <a:t>To escape natural disasters or war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Rockwell"/>
              </a:rPr>
              <a:t>It is estimated that in this century there will be more environmental refugees than those of war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Rockwell"/>
              </a:rPr>
              <a:t>People tend to settle in metropolitan areas because large, populous cities can provide job opportunities, entertainment facilities, religious and cultural institution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Rockwell"/>
              </a:rPr>
              <a:t>These factors make people feel safe and comfortable in an new surrounding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8" name="Content Placeholder 4" descr="Toronto.jpg"/>
          <p:cNvPicPr/>
          <p:nvPr/>
        </p:nvPicPr>
        <p:blipFill>
          <a:blip r:embed="rId2"/>
          <a:srcRect l="0" t="-20358" r="0" b="-20358"/>
          <a:stretch/>
        </p:blipFill>
        <p:spPr>
          <a:xfrm>
            <a:off x="4648320" y="1646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3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397" name="Content Placeholder 6" descr="multicult-pic.jpg"/>
          <p:cNvPicPr/>
          <p:nvPr/>
        </p:nvPicPr>
        <p:blipFill>
          <a:blip r:embed="rId2"/>
          <a:srcRect l="0" t="-9471" r="0" b="-9471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mmigrants, or descendants of immigrants make up 98% of Canadian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r this reason, Canada is often called a 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tossed salad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a 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cultural mosaic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or a 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ulticultural society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4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400" name="Content Placeholder 6" descr="canadian-immigration-face.jpg"/>
          <p:cNvPicPr/>
          <p:nvPr/>
        </p:nvPicPr>
        <p:blipFill>
          <a:blip r:embed="rId2"/>
          <a:srcRect l="-10278" t="0" r="-10278" b="0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081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Immigration</a:t>
            </a: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 is when you a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arriving</a:t>
            </a: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 into a new countr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Rockwell"/>
              </a:rPr>
              <a:t>Emigration</a:t>
            </a:r>
            <a:r>
              <a:rPr b="0" i="1" lang="en-CA" sz="3200" spc="-1" strike="noStrike">
                <a:solidFill>
                  <a:srgbClr val="ffffff"/>
                </a:solidFill>
                <a:latin typeface="Rockwell"/>
              </a:rPr>
              <a:t> is when you are</a:t>
            </a: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leaving</a:t>
            </a: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 your country of origi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08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Push facto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Reasons to leave your country such as losing a job, high taxes, war, disease, corrupt governments, bad education and undesirable climate conditi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407" name="Content Placeholder 5" descr="money.png"/>
          <p:cNvPicPr/>
          <p:nvPr/>
        </p:nvPicPr>
        <p:blipFill>
          <a:blip r:embed="rId2"/>
          <a:srcRect l="0" t="-27291" r="0" b="-27291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8" name="Content Placeholder 6" descr="climate.png"/>
          <p:cNvPicPr/>
          <p:nvPr/>
        </p:nvPicPr>
        <p:blipFill>
          <a:blip r:embed="rId3"/>
          <a:srcRect l="0" t="-3297" r="0" b="-3297"/>
          <a:stretch/>
        </p:blipFill>
        <p:spPr>
          <a:xfrm>
            <a:off x="4648320" y="1646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08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Pull facto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Reasons why you are drawn to another country such as a better job, lower taxes, lack of war, disease and corrupt governments, good education and attractive climate condi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3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6" descr="money2.png"/>
          <p:cNvPicPr/>
          <p:nvPr/>
        </p:nvPicPr>
        <p:blipFill>
          <a:blip r:embed="rId2"/>
          <a:srcRect l="0" t="-27415" r="0" b="-27415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13" name="Content Placeholder 7" descr="Climate2.png"/>
          <p:cNvPicPr/>
          <p:nvPr/>
        </p:nvPicPr>
        <p:blipFill>
          <a:blip r:embed="rId3"/>
          <a:srcRect l="0" t="-33491" r="0" b="-33491"/>
          <a:stretch/>
        </p:blipFill>
        <p:spPr>
          <a:xfrm>
            <a:off x="4648320" y="1646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Independent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Family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Refugees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6" name="Content Placeholder 4" descr="plane.png"/>
          <p:cNvPicPr/>
          <p:nvPr/>
        </p:nvPicPr>
        <p:blipFill>
          <a:blip r:embed="rId2"/>
          <a:srcRect l="0" t="-31635" r="0" b="-31635"/>
          <a:stretch/>
        </p:blipFill>
        <p:spPr>
          <a:xfrm>
            <a:off x="4648320" y="1646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0:55:57Z</dcterms:created>
  <dc:creator>Local Administrator</dc:creator>
  <dc:description/>
  <dc:language>en-US</dc:language>
  <cp:lastModifiedBy>Jody Michael Robinson</cp:lastModifiedBy>
  <dcterms:modified xsi:type="dcterms:W3CDTF">2014-09-20T15:15:15Z</dcterms:modified>
  <cp:revision>3</cp:revision>
  <dc:subject/>
  <dc:title>Population And Immigration</dc:title>
</cp:coreProperties>
</file>